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8.png" ContentType="image/png"/>
  <Override PartName="/ppt/media/image7.png" ContentType="image/png"/>
  <Override PartName="/ppt/media/image9.png" ContentType="image/png"/>
  <Override PartName="/ppt/media/image13.jpeg" ContentType="image/jpeg"/>
  <Override PartName="/ppt/media/image30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FA50-BEFA-4368-82B8-E9AA830031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ened Birds of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ened Birds of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12 bird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ang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12 bird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eat Indian Bustard Ardeotis nigrice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storically spread all over Indian subcontinent. Now restricted to only a few places in Rajasthan, Maharashtra, Karnataka, Andhra Pradesh and Madhya Pr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bitat specialist birds representative of Gras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s – expansion of agriculture, habitat fragmentation, overgrazing, pesticides and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eat Indian Bustard Ardeotis nigric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istorically spread all over Indian subcontinent. Now restricted to only a few places in Rajasthan, Maharashtra, Karnataka, Andhra Pradesh and Madhya Prad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bitat specialist birds representative of 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s – expansion of agriculture, habitat fragmentation, overgrazing, pesticides and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ner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59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n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59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t-billed Pelican Pelecanus philippen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cies found all over India in large wet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pulation is declining very 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destruction of nesting habitat, drainage and pollution of wetlands and dearth of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t-billed Pelican Pelecanus philippen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es found all over India in large wet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pulation is declining very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destruction of nesting habitat, drainage and pollution of wetlands and dearth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us Crane Grus antig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ly widespread all over south Asia and Australia. Now declining all over its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- primarily threatened by a combination of habitat loss and modification (owing primarily to agricultural expansion), pollution and persec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us Crane Grus antig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ly widespread all over south Asia and Australia. Now declining all over its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- primarily threatened by a combination of habitat loss and modification (owing primarily to agricultural expansion), pollution and pers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reaten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58 species which fall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reaten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58 species which fall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ed Stork Mycteria leucoceph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despread and locally common resident in South east A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requents freshwater marshes, lakes and reservoirs, flooded fields, paddy fields, freshwater swamp forests, riverbanks, intertidal mudflats and saltp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- habitat loss, disturbance, pollution and hunting of adults and collection of eggs and nestlings from colonies is cause for conc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ted Stork Mycteria leucoceph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spread and locally common resident in South east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frequents freshwater marshes, lakes and reservoirs, flooded fields, paddy fields, freshwater swamp forests, riverbanks, intertidal mudflats and saltp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- habitat loss, disturbance, pollution and hunting of adults and collection of eggs and nestlings from colonies is cause for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er Flamingo Phoeniconaias min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only in Asia and African Cont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year 10%  population decline is observed in Africa. It breeds in Little Run of Katch in Gujar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reeding, disperse over Indian Subcont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water pollution, disturbance to nesting sites and  habitat destr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er Flamingo Phoeniconaias mi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Asia and African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year 10%  population decline is observed in Africa. It breeds in Little Run of Katch in Gujar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breeding, disperse over Indian Sub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water pollution, disturbance to nesting sites and  habitat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birds are threat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Destr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Agri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Industr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aching and 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al Warming and Climate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birds are threat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of 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Industr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aching and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 and Climat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egories of threatene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inct – not seen at least for 5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ally Endangered – likely to be extin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angered – high risk of exti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nerable – risk of exti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reatened – close to vulner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st Concern – not qualify any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deficient – no information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ies of threatened 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 – not seen at least for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ly Endangered – likely to be extin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angered – high risk of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nerable – risk of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reatened – close to vuln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st Concern – not qualify any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deficient – no information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ened Birds Scenar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ened Birds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ally 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entral India we have 9 species of the bird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ly Endang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entral India we have 9 species of the bird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-backed Vulture Gyps bengalen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ecies is widely distributed in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late 1990 it was in abundant but declined rapid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 – veterinary use of  diclofenac for livest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-backed Vulture Gyps bengalen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ecies is widely distributed in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late 1990 it was in abundant but declined rapi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– veterinary use of  diclofenac for livest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-billed Vulture Gyps indi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ecies is also widely distributed in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White-backed Vultures their population declined rapidly after 19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 – veterinary use of  diclofenac for ca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-billed Vulture Gyps ind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ecies is also widely distributed in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hite-backed Vultures their population declined rapidly after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– veterinary use of  diclofenac for c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rdon's Courser Rhinptilus bitorqu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s is endemic bird found in south-eastern Andhra Pradesh. Earlier known from few places in Central India from Godavari River bas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bitat specialist bird found only in scrub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s – habitat destruction because of human activ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erdon's Courser Rhinptilus bitorqu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s is endemic bird found in south-eastern Andhra Pradesh. Earlier known from few places in Central India from Godavari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bitat specialist bird found only in scrub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s – habitat destruction because of human activ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 Owlet Heteroglaux blewit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found in dry deciduous for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habitat destruction for fuel wood, illicit wood cutting, overgrazing and direct persecution by tri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st Owlet Heteroglaux blew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dry decidu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habitat destruction for fuel wood, illicit wood cutting, overgrazing and direct persecution by tri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42A-FF45-4080-9ED7-7A051873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F74-5370-4271-8FC4-BA2FD56B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B48A-BB7A-47D5-BC3A-CE73BA4E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5E4C-B86D-4872-BE83-44EFD56C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3C01-2C53-41F6-A048-D5A80179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061A-15A0-4A4D-9D33-67BE72DF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CBB8-A0B0-4FC6-98FD-E799ED70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A54E-4C67-41FA-9115-1E00BD17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5981-FF69-4EAF-A1B7-C29E28EE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2BC5-6B4C-49CC-B239-834DE439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9771-A72F-4634-94EA-DE364345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4C22-C1B4-4278-A94E-05EFAD25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77E1-1BDD-42DC-ACAE-C1D56DF1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D956-1055-4461-BEF3-7799328D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482D-AFD9-4F14-A4F0-34DD0F8A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F224-DE65-42DE-91C4-E9638E1A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C7EC-1C63-48A9-9FEC-115AA763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20FAB-C6FF-4F82-8E84-925DC64C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629B7-3947-4609-95E4-9F62FBE3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1F1C2-D8D5-40A8-9FF9-C1AB7248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BB367-96E4-41CA-BCA3-0D47CF74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4253B-E385-4B09-8E85-4E2C794B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C88C-DD3A-48AB-A3B3-D857F935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DCB6F-DB8B-43F1-A43A-D816B414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443EF-C838-4482-AAC4-4222C75F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C3927-3B42-4930-9903-7FC164C8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30A87-51CC-4D85-A198-0FD5ADC1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62DC4-6E78-4B95-AD50-DBB71552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882A1-19AD-49B1-9AC2-7A003F98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CA67E-32E8-49AC-8E51-0040E10C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72FFD-3D6F-4F2B-9C97-69BAC2AA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AD1AF-32DA-403D-BB88-198BB6D7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B6D3B-D845-4113-B5B4-4BFAB1E2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F877-1F90-47C5-80E0-6A305ABA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5D51D-AF5B-482B-B493-3B71E4A5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D2832-714A-4FDF-BB0E-27459D98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49AD4-6DDD-4E0D-B4A3-51A4A8F0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41360-241A-455D-95ED-20D24041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93CC6-3EBC-4039-830B-407432FE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2D029-4D73-4F05-A4BD-34FC029F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868C6-F6C7-4DED-BB7B-D861C702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63B29-EF9A-481E-8EE6-7EFBA308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F24D0-588C-4BDA-A8F9-756B472B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D8FDC-1FB7-4988-B1B4-3640F472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9B02-4BDC-4E9B-81D2-D7F03008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8CC20-FA74-4579-9A32-B5E5C387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69CAA-7C63-4F89-99D7-5942A14D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ED218-5E68-4172-856D-01C5D474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98015-B2B2-47E4-AD0C-7846F57E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C2400-5A78-4C26-A1D1-220CB541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2FBE1-D754-4418-AA56-60E57698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76186-A7D2-4937-A408-3694D9DB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94763-9246-47C4-8D5D-7870D7BB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3C719-4302-4E54-A30A-6797FDC4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5D083-2C7A-41CB-9CB1-27FFAFC5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2D6-441F-45BC-BF2C-AB1EAE82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9E303-9C3B-4819-A232-C503ED99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48924-4792-4FFC-B50B-16DCD5BF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92810-031D-49E7-855F-49B205BC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3DF5A-3996-4C11-AF0B-64C8D60F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65655-27CA-472B-9897-377E9466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F23BB-E662-4D0B-AC50-ABDC913D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996F9-BE73-4912-9840-3034172C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AD04E-0937-4D52-B1DD-866E5164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0281C-78D1-4F95-9B12-7C879EEC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C9872-F8C7-49C9-AA3D-C07E1CE0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284D-E4E3-491A-BE46-FACF83FD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B8798-0669-4C28-98F1-158B05BE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A0213-7A06-41B8-9F79-CC5984DA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220C5-24A4-4557-BC42-EB32D7AC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7A9B0-91B6-4CD5-8CD7-C7A4944A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C22B1-B112-4073-A9F8-ED8C63F7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23BD5-D1DA-4104-8B60-3FAF421B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87656-8117-4544-845C-400656F4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B7F7D-5F96-4A88-B2B2-84F16A28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D7325-D7EB-449E-94AB-1916E645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7C4FF-7004-4F46-AD21-50C10224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1F8A-D3D9-4ACD-8893-C8875E2C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D410A-0C9A-4740-A078-2D4F1885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E8C5E-5087-450B-AFF2-8D7FC8BB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1AEEA-6141-455F-ABFD-E064721F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0A6E1-15AC-49E7-B5B2-21391822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EA851-9866-47EA-8032-AFF9E10B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2F91-BF86-42AE-A603-8A37B21B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496E-E022-4A6C-AA7C-25310A2569EF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ED9A-5D3E-4D6C-B021-A3EE5697B2F7}" type="slidenum">
              <a:rPr b="0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730E-0205-4AD1-81BC-4C632DA51E91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4e7ed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84AF-DE5D-4814-9E0D-55D52F3C8C94}" type="slidenum">
              <a:rPr b="0" lang="en-GB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E846-629F-4A9D-AE61-0ABC4A6EBCC7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6CA3-0B08-4AB8-8782-22E39CE7D5A3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6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09F0-81E6-40D9-A5FE-52BEFE55721B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4" descr=""/>
          <p:cNvPicPr/>
          <p:nvPr/>
        </p:nvPicPr>
        <p:blipFill>
          <a:blip r:embed="rId1"/>
          <a:stretch/>
        </p:blipFill>
        <p:spPr>
          <a:xfrm>
            <a:off x="212760" y="274320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316" name="Нижний колонтитул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2857320"/>
            <a:ext cx="8229600" cy="18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12 bird specie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487440" y="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038120" y="1600200"/>
            <a:ext cx="4800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istorically spread all over Indian subcontinent. Now restricted to only a few places in Rajasthan, Maharashtra, Karnataka, Andhra Pradesh and Madhya Pradesh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bitat specialist birds representative of Grasslan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– expansion of agriculture, habitat fragmentation, overgrazing, pesticides and huntin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1" name="Picture 4" descr="Great Indian Bustard"/>
          <p:cNvPicPr/>
          <p:nvPr/>
        </p:nvPicPr>
        <p:blipFill>
          <a:blip r:embed="rId2"/>
          <a:stretch/>
        </p:blipFill>
        <p:spPr>
          <a:xfrm>
            <a:off x="304920" y="1676520"/>
            <a:ext cx="3406680" cy="4114800"/>
          </a:xfrm>
          <a:prstGeom prst="rect">
            <a:avLst/>
          </a:prstGeom>
          <a:ln w="0">
            <a:noFill/>
          </a:ln>
        </p:spPr>
      </p:pic>
      <p:sp>
        <p:nvSpPr>
          <p:cNvPr id="3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59 specie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712800" y="0"/>
            <a:ext cx="8431200" cy="13906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species found all over India in large wetlan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population is declining very fa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– destruction of nesting habitat, drainage and pollution of wetlands and dearth of foo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8" name="Picture 4" descr="Spot-bellied-Pelican"/>
          <p:cNvPicPr/>
          <p:nvPr/>
        </p:nvPicPr>
        <p:blipFill>
          <a:blip r:embed="rId2"/>
          <a:stretch/>
        </p:blipFill>
        <p:spPr>
          <a:xfrm>
            <a:off x="533520" y="2514600"/>
            <a:ext cx="3809880" cy="2725560"/>
          </a:xfrm>
          <a:prstGeom prst="rect">
            <a:avLst/>
          </a:prstGeom>
          <a:ln w="0">
            <a:noFill/>
          </a:ln>
        </p:spPr>
      </p:pic>
      <p:sp>
        <p:nvSpPr>
          <p:cNvPr id="3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712800" y="-79200"/>
            <a:ext cx="7974000" cy="13716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419720" y="19051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istorically widespread all over south Asia and Australia. Now declining all over its ran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- primarily threatened by a combination of habitat loss and modification (owing primarily to agricultural expansion), pollution and persecu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2" name="Picture 4" descr="Sarus-Crane"/>
          <p:cNvPicPr/>
          <p:nvPr/>
        </p:nvPicPr>
        <p:blipFill>
          <a:blip r:embed="rId2"/>
          <a:stretch/>
        </p:blipFill>
        <p:spPr>
          <a:xfrm>
            <a:off x="380880" y="2057400"/>
            <a:ext cx="3810240" cy="3070080"/>
          </a:xfrm>
          <a:prstGeom prst="rect">
            <a:avLst/>
          </a:prstGeom>
          <a:ln w="0">
            <a:noFill/>
          </a:ln>
        </p:spPr>
      </p:pic>
      <p:sp>
        <p:nvSpPr>
          <p:cNvPr id="3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838080" y="2743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58 species which fall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487440" y="-15228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495680" y="11426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idespread and locally common resident in South east Asi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t frequents freshwater marshes, lakes and reservoirs, flooded fields, paddy fields, freshwater swamp forests, riverbanks, intertidal mudflats and saltpa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- habitat loss, disturbance, pollution and hunting of adults and collection of eggs and nestlings from colonies is cause for concer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9" name="Picture 4" descr="Painted-Stork"/>
          <p:cNvPicPr/>
          <p:nvPr/>
        </p:nvPicPr>
        <p:blipFill>
          <a:blip r:embed="rId2"/>
          <a:stretch/>
        </p:blipFill>
        <p:spPr>
          <a:xfrm>
            <a:off x="152280" y="1600200"/>
            <a:ext cx="4191120" cy="3195720"/>
          </a:xfrm>
          <a:prstGeom prst="rect">
            <a:avLst/>
          </a:prstGeom>
          <a:ln w="0">
            <a:noFill/>
          </a:ln>
        </p:spPr>
      </p:pic>
      <p:sp>
        <p:nvSpPr>
          <p:cNvPr id="3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487440" y="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495320" y="1447560"/>
            <a:ext cx="4496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nd only in Asia and African Contin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very year 10%  population decline is observed in Africa. It breeds in Little Run of Katch in Gujar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fter breeding, disperse over Indian Subcontin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– water pollution, disturbance to nesting sites and  habitat destruc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73" name="Picture 6" descr="B-0043"/>
          <p:cNvPicPr/>
          <p:nvPr/>
        </p:nvPicPr>
        <p:blipFill>
          <a:blip r:embed="rId2"/>
          <a:stretch/>
        </p:blipFill>
        <p:spPr>
          <a:xfrm>
            <a:off x="228600" y="2576520"/>
            <a:ext cx="4038480" cy="2681280"/>
          </a:xfrm>
          <a:prstGeom prst="rect">
            <a:avLst/>
          </a:prstGeom>
          <a:ln w="0">
            <a:noFill/>
          </a:ln>
        </p:spPr>
      </p:pic>
      <p:sp>
        <p:nvSpPr>
          <p:cNvPr id="3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4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Why birds are threate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bitat De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ansion of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apid Industr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aching and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obal Warming and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Habitat Destruction"/>
          <p:cNvPicPr/>
          <p:nvPr/>
        </p:nvPicPr>
        <p:blipFill>
          <a:blip r:embed="rId1"/>
          <a:stretch/>
        </p:blipFill>
        <p:spPr>
          <a:xfrm>
            <a:off x="3200400" y="1523880"/>
            <a:ext cx="2847960" cy="4343400"/>
          </a:xfrm>
          <a:prstGeom prst="rect">
            <a:avLst/>
          </a:prstGeom>
          <a:ln w="0">
            <a:noFill/>
          </a:ln>
        </p:spPr>
      </p:pic>
      <p:sp>
        <p:nvSpPr>
          <p:cNvPr id="32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xtinct – not seen at least for 50 yea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Critically Endangered – likely to be extinc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ndangered – high risk of extin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Vulnerable – risk of extin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Near threatened – close to vulner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Least Concern – not qualify any of the abov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ata deficient – no information avail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444600" y="0"/>
            <a:ext cx="801684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800280" y="1905120"/>
          <a:ext cx="7429320" cy="4114800"/>
        </p:xfrm>
        <a:graphic>
          <a:graphicData uri="http://schemas.openxmlformats.org/drawingml/2006/table">
            <a:tbl>
              <a:tblPr/>
              <a:tblGrid>
                <a:gridCol w="4076640"/>
                <a:gridCol w="1722240"/>
                <a:gridCol w="16304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ally Endang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ang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lner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r Threaten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500040" y="-152280"/>
            <a:ext cx="8034480" cy="1450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990720" y="2971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 Central India we have 9 species of the bird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182520" y="-49320"/>
            <a:ext cx="8431200" cy="14209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4033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species is widely distributed in Ind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ill late 1990 it was in abundant but declined rapidly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use – veterinary use of  diclofenac for livestoc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2" name="Picture 4" descr="White-backed-vulture"/>
          <p:cNvPicPr/>
          <p:nvPr/>
        </p:nvPicPr>
        <p:blipFill>
          <a:blip r:embed="rId2"/>
          <a:stretch/>
        </p:blipFill>
        <p:spPr>
          <a:xfrm>
            <a:off x="4648320" y="1523880"/>
            <a:ext cx="4267080" cy="4267440"/>
          </a:xfrm>
          <a:prstGeom prst="rect">
            <a:avLst/>
          </a:prstGeom>
          <a:ln w="0">
            <a:noFill/>
          </a:ln>
        </p:spPr>
      </p:pic>
      <p:sp>
        <p:nvSpPr>
          <p:cNvPr id="33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712800" y="0"/>
            <a:ext cx="8431200" cy="13906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495680" y="1752120"/>
            <a:ext cx="4648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species is also widely distributed in Indi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ike White-backed Vultures their population declined rapidly after 1990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use – veterinary use of  diclofenac for cattl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6" name="Picture 4" descr="Long-billed-vulture"/>
          <p:cNvPicPr/>
          <p:nvPr/>
        </p:nvPicPr>
        <p:blipFill>
          <a:blip r:embed="rId2"/>
          <a:stretch/>
        </p:blipFill>
        <p:spPr>
          <a:xfrm>
            <a:off x="733320" y="1600200"/>
            <a:ext cx="3762360" cy="4114800"/>
          </a:xfrm>
          <a:prstGeom prst="rect">
            <a:avLst/>
          </a:prstGeom>
          <a:ln w="0">
            <a:noFill/>
          </a:ln>
        </p:spPr>
      </p:pic>
      <p:sp>
        <p:nvSpPr>
          <p:cNvPr id="33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487440" y="-79200"/>
            <a:ext cx="7974000" cy="13903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4800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is endemic bird found in south-eastern Andhra Pradesh. Earlier known from few places in Central India from Godavari River basin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bitat specialist bird found only in scrub fores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– habitat destruction because of human activitie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0" name="Picture 4" descr="Jerdon's-Courser"/>
          <p:cNvPicPr/>
          <p:nvPr/>
        </p:nvPicPr>
        <p:blipFill>
          <a:blip r:embed="rId2"/>
          <a:stretch/>
        </p:blipFill>
        <p:spPr>
          <a:xfrm>
            <a:off x="5516640" y="1600200"/>
            <a:ext cx="324648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487440" y="-79200"/>
            <a:ext cx="7974000" cy="13903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5105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nly found in dry deciduous fore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reats – habitat destruction for fuel wood, illicit wood cutting, overgrazing and direct persecution by trib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4" name="Picture 4" descr="Forest Owlet"/>
          <p:cNvPicPr/>
          <p:nvPr/>
        </p:nvPicPr>
        <p:blipFill>
          <a:blip r:embed="rId2"/>
          <a:stretch/>
        </p:blipFill>
        <p:spPr>
          <a:xfrm>
            <a:off x="5467320" y="1600200"/>
            <a:ext cx="3524400" cy="3809880"/>
          </a:xfrm>
          <a:prstGeom prst="rect">
            <a:avLst/>
          </a:prstGeom>
          <a:ln w="0">
            <a:noFill/>
          </a:ln>
        </p:spPr>
      </p:pic>
      <p:sp>
        <p:nvSpPr>
          <p:cNvPr id="3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4:42:41Z</dcterms:created>
  <dc:creator> GIRISH</dc:creator>
  <dc:description/>
  <dc:language>en-US</dc:language>
  <cp:lastModifiedBy>LEGION</cp:lastModifiedBy>
  <dcterms:modified xsi:type="dcterms:W3CDTF">2018-03-12T09:10:25Z</dcterms:modified>
  <cp:revision>337</cp:revision>
  <dc:subject/>
  <dc:title>Slide 1</dc:title>
</cp:coreProperties>
</file>